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D8A-3B7C-4136-BB14-E9C0198F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694-E635-4112-BE33-AC8DEAF4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493-FC41-4C00-A714-6530D5D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D3E-D502-41C0-A471-3C7C485C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EE8-D212-42C4-ACE7-2428EBDB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88920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ED4-06C6-4049-8717-8DBE9D0C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F32-DBB4-43CD-B9E1-2CC6D59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5F5-F253-45F3-A75B-EA9E0265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671-BC8E-4B89-8C6F-71F33B8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BA1-96F0-47A1-AC92-8B8EAD67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587-FEF8-418E-9B8F-C297157E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994-7ECD-4916-A9DD-C6302A2F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88920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7792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-92160" y="-11268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第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章  应用系统开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E2BD-9AE4-4020-BC65-5378F2206FB1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56FF-95DF-43B7-BC6A-157F9193DF8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1.png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image" Target="../media/image1.png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image" Target="../media/image1.png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章  应用系统开发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680"/>
            <a:ext cx="5181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2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3" action="ppaction://hlinksldjump"/>
              </a:rPr>
              <a:t> 6.1  汽车动画程序开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5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6" action="ppaction://hlinksldjump"/>
              </a:rPr>
              <a:t> 6.2  发声系统程序开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647712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开   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1600" y="685800"/>
            <a:ext cx="64771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指向字符图形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从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列位置开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汽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E_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           MA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EAR_SCREEN PROC 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护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733920"/>
            <a:ext cx="59436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3880" y="609480"/>
            <a:ext cx="5715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屏幕上卷功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左上角行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左上角列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右下角行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右下角列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卷入行属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显示属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76520" y="609480"/>
            <a:ext cx="5257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返回主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EAR_SCREEN  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E_SHAPE PROC 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护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581280"/>
            <a:ext cx="50292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838080"/>
            <a:ext cx="7696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F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当前显示方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清除计数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高字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DI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放循环次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指向字符图形表中的第一个字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AR_C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存循环次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E_O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L_O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6629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LOT_NEX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[DI+2]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改变行列指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[DI+3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出屏否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J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_CRS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ER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DI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X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X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380880"/>
            <a:ext cx="74674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_CRS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移动光标位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0H        M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[DI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B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[DI+1]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取字符值及属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X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CX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09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显示字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0H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指向下一个字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LOT_N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LY_QRT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调用延时子程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00200" y="762120"/>
            <a:ext cx="6477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擦除子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HORT PLOT_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E_SHAP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 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AR_C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E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L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2666880"/>
            <a:ext cx="49528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83808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_NEX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DI+2]          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DI+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       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DI]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       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            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_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AR_C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76520" y="990720"/>
            <a:ext cx="6172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E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L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L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Y_QRTR PROC NE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延时子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4495680"/>
            <a:ext cx="4953240" cy="4464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05120" y="914400"/>
            <a:ext cx="5638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2          D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1          P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X           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Y_QRT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3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1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汽车动画程序开发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57400" y="236232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3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4" action="ppaction://hlinksldjump"/>
              </a:rPr>
              <a:t> 6.1.1 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ea typeface="黑体"/>
                <a:hlinkClick r:id="rId5" action="ppaction://hlinksldjump"/>
              </a:rPr>
              <a:t>字符图形显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8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9" action="ppaction://hlinksldjump"/>
              </a:rPr>
              <a:t> 6.1.2  动画程序的开发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0" action="ppaction://hlinksldjump"/>
          </p:cNvPr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1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2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发声系统程序开发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594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2" action="ppaction://hlinksldjump"/>
              </a:rPr>
              <a:t> 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3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4" action="ppaction://hlinksldjump"/>
              </a:rPr>
              <a:t> 6.2.1      系统发声途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8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9" action="ppaction://hlinksldjump"/>
              </a:rPr>
              <a:t> 6.2.2    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ea typeface="黑体"/>
                <a:hlinkClick r:id="rId10" action="ppaction://hlinksldjump"/>
              </a:rPr>
              <a:t>发声应用程序举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1" action="ppaction://hlinksldjump"/>
          </p:cNvPr>
          <p:cNvSpPr/>
          <p:nvPr/>
        </p:nvSpPr>
        <p:spPr>
          <a:xfrm>
            <a:off x="6629400" y="6324480"/>
            <a:ext cx="2133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2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2.1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系统发声途径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ea typeface="楷体_GB2312"/>
                <a:hlinkClick r:id="rId2" action="ppaction://hlinksldjump"/>
              </a:rPr>
              <a:t>1．8254定时器作为发声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4" action="ppaction://hlinksldjump"/>
              </a:rPr>
              <a:t>2．8255端口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5" action="ppaction://hlinksldjump"/>
              </a:rPr>
              <a:t>B（PB1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6" action="ppaction://hlinksldjump"/>
              </a:rPr>
              <a:t>位）作为发声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7" action="ppaction://hlinksldjump"/>
          </p:cNvPr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8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8254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定时器作为发声源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90512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定时器产生的方波信号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端口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与来控制扬声器发声的（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），因此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B1=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才能控制扬声器的音调。在系统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口地址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用指令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057400" y="4800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2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控制扬声器发声原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371600" y="990720"/>
          <a:ext cx="6378480" cy="34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3784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362320" y="990720"/>
            <a:ext cx="48765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OM  BIO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的发声子程序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EE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  NEAR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110110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3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3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RT_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33720" y="533520"/>
            <a:ext cx="5410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T_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T_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                  BEE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95904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8255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端口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PB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位）作为发声源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057400"/>
            <a:ext cx="701028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端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或相应的等效电路）最低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关闭定时器声源的输出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OUT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常高电位（方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致）。又通过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端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或相应等效电路）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置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按指定的频率来编程），便能让“与”门输出一周期性变化的方波，使扬声器发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6.2.2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发声应用程序举例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1" action="ppaction://hlinksldjump"/>
              </a:rPr>
              <a:t>1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2" action="ppaction://hlinksldjump"/>
              </a:rPr>
              <a:t>．扬声器发声通用子程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3" action="ppaction://hlinksldjump"/>
              </a:rPr>
              <a:t>2．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4" action="ppaction://hlinksldjump"/>
              </a:rPr>
              <a:t>演奏乐曲程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5" action="ppaction://hlinksldjump"/>
              </a:rPr>
              <a:t>3．定时报警程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913320"/>
            <a:ext cx="61722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．扬声器发声通用子程序</a:t>
            </a:r>
            <a:endParaRPr b="1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752480"/>
            <a:ext cx="6553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6480" indent="-1806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】通用发声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GENSOUN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GMENT PARA ‘COD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SSUME  C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保存将要用到的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838080"/>
            <a:ext cx="85345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X         PUS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0B6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向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8253-5/8254-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计数器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写控制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3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方式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双字节写和二进制计数方式写到控制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2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设置被除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533H*8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其商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为预置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2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先送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6.1.1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字符图形显示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90512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图形既可以在显示器上以简单的黑白图形字符显示，也可以在彩色显示器上以彩色的图形字符显示。通过调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NT 10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H=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L=0~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设置不同的显示方式，调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0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H=09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H=0A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可显示字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685800"/>
            <a:ext cx="72388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后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读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端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原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存端口原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接通扬声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AIT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  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FF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0486/DX2/6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  DELA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循环次数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FF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循环持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AI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990720"/>
            <a:ext cx="64771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写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口原值，关闭扬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子程序结束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920160"/>
            <a:ext cx="556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演奏乐曲程序</a:t>
            </a:r>
            <a:endParaRPr b="1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09480" y="2465280"/>
            <a:ext cx="7772040" cy="1954080"/>
            <a:chOff x="609480" y="2465280"/>
            <a:chExt cx="7772040" cy="1954080"/>
          </a:xfrm>
        </p:grpSpPr>
        <p:grpSp>
          <p:nvGrpSpPr>
            <p:cNvPr id="224" name=""/>
            <p:cNvGrpSpPr/>
            <p:nvPr/>
          </p:nvGrpSpPr>
          <p:grpSpPr>
            <a:xfrm>
              <a:off x="614160" y="2469960"/>
              <a:ext cx="7761960" cy="1944000"/>
              <a:chOff x="614160" y="2469960"/>
              <a:chExt cx="7761960" cy="19440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614160" y="2469960"/>
                <a:ext cx="848520" cy="601560"/>
                <a:chOff x="614160" y="2469960"/>
                <a:chExt cx="848520" cy="601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84720" y="2469960"/>
                  <a:ext cx="70740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音名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4160" y="2469960"/>
                  <a:ext cx="8485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463040" y="2469960"/>
                <a:ext cx="460440" cy="601560"/>
                <a:chOff x="1463040" y="2469960"/>
                <a:chExt cx="460440" cy="6015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53360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46304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924200" y="2469960"/>
                <a:ext cx="460440" cy="601560"/>
                <a:chOff x="1924200" y="2469960"/>
                <a:chExt cx="460440" cy="6015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99476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92420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385000" y="2469960"/>
                <a:ext cx="460440" cy="601560"/>
                <a:chOff x="2385000" y="2469960"/>
                <a:chExt cx="460440" cy="601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45520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38500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846160" y="2469960"/>
                <a:ext cx="460080" cy="601560"/>
                <a:chOff x="2846160" y="2469960"/>
                <a:chExt cx="460080" cy="6015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91636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46160" y="246996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306960" y="2469960"/>
                <a:ext cx="460440" cy="601560"/>
                <a:chOff x="3306960" y="2469960"/>
                <a:chExt cx="460440" cy="601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37752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30696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767760" y="2469960"/>
                <a:ext cx="460440" cy="601560"/>
                <a:chOff x="3767760" y="2469960"/>
                <a:chExt cx="460440" cy="6015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83832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76776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228920" y="2469960"/>
                <a:ext cx="460080" cy="601560"/>
                <a:chOff x="4228920" y="2469960"/>
                <a:chExt cx="460080" cy="6015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29912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28920" y="246996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689360" y="2469960"/>
                <a:ext cx="460440" cy="601560"/>
                <a:chOff x="4689360" y="2469960"/>
                <a:chExt cx="460440" cy="6015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75992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8936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150520" y="2469960"/>
                <a:ext cx="460440" cy="601560"/>
                <a:chOff x="5150520" y="2469960"/>
                <a:chExt cx="460440" cy="6015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22108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5052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611320" y="2469960"/>
                <a:ext cx="460440" cy="601560"/>
                <a:chOff x="5611320" y="2469960"/>
                <a:chExt cx="460440" cy="601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68188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61132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072480" y="2469960"/>
                <a:ext cx="460080" cy="601560"/>
                <a:chOff x="6072480" y="2469960"/>
                <a:chExt cx="460080" cy="601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14268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072480" y="246996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532920" y="2469960"/>
                <a:ext cx="460440" cy="601560"/>
                <a:chOff x="6532920" y="2469960"/>
                <a:chExt cx="460440" cy="601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60348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3292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94080" y="2469960"/>
                <a:ext cx="460440" cy="601560"/>
                <a:chOff x="6994080" y="2469960"/>
                <a:chExt cx="460440" cy="6015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6464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9408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454880" y="2469960"/>
                <a:ext cx="460440" cy="601560"/>
                <a:chOff x="7454880" y="2469960"/>
                <a:chExt cx="460440" cy="6015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52508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45488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916040" y="2469960"/>
                <a:ext cx="460080" cy="601560"/>
                <a:chOff x="7916040" y="2469960"/>
                <a:chExt cx="460080" cy="6015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98624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16040" y="246996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14160" y="3071880"/>
                <a:ext cx="848520" cy="601560"/>
                <a:chOff x="614160" y="3071880"/>
                <a:chExt cx="848520" cy="6015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84720" y="3071880"/>
                  <a:ext cx="70740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唱名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14160" y="3071880"/>
                  <a:ext cx="8485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463040" y="3071880"/>
                <a:ext cx="460440" cy="601560"/>
                <a:chOff x="1463040" y="3071880"/>
                <a:chExt cx="460440" cy="6015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53360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46304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1924200" y="3071880"/>
                <a:ext cx="460440" cy="601560"/>
                <a:chOff x="1924200" y="3071880"/>
                <a:chExt cx="460440" cy="6015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99476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92420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385000" y="3071880"/>
                <a:ext cx="460440" cy="601560"/>
                <a:chOff x="2385000" y="3071880"/>
                <a:chExt cx="460440" cy="6015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5520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38500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846160" y="3071880"/>
                <a:ext cx="460080" cy="601560"/>
                <a:chOff x="2846160" y="3071880"/>
                <a:chExt cx="460080" cy="6015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91636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46160" y="307188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306960" y="3071880"/>
                <a:ext cx="460440" cy="601560"/>
                <a:chOff x="3306960" y="3071880"/>
                <a:chExt cx="460440" cy="6015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37752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30696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767760" y="3071880"/>
                <a:ext cx="460440" cy="601560"/>
                <a:chOff x="3767760" y="3071880"/>
                <a:chExt cx="460440" cy="6015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83832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776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228920" y="3071880"/>
                <a:ext cx="460080" cy="601560"/>
                <a:chOff x="4228920" y="3071880"/>
                <a:chExt cx="460080" cy="6015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9912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228920" y="307188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689360" y="3071880"/>
                <a:ext cx="460440" cy="601560"/>
                <a:chOff x="4689360" y="3071880"/>
                <a:chExt cx="460440" cy="601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5992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68936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150520" y="3071880"/>
                <a:ext cx="460440" cy="601560"/>
                <a:chOff x="5150520" y="3071880"/>
                <a:chExt cx="460440" cy="6015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22108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15052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611320" y="3071880"/>
                <a:ext cx="460440" cy="601560"/>
                <a:chOff x="5611320" y="3071880"/>
                <a:chExt cx="460440" cy="6015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68188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61132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072480" y="3071880"/>
                <a:ext cx="460080" cy="601560"/>
                <a:chOff x="6072480" y="3071880"/>
                <a:chExt cx="460080" cy="6015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4268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72480" y="307188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6532920" y="3071880"/>
                <a:ext cx="460440" cy="601560"/>
                <a:chOff x="6532920" y="3071880"/>
                <a:chExt cx="460440" cy="6015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60348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3292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994080" y="3071880"/>
                <a:ext cx="460440" cy="601560"/>
                <a:chOff x="6994080" y="3071880"/>
                <a:chExt cx="460440" cy="6015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06464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9408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454880" y="3071880"/>
                <a:ext cx="460440" cy="601560"/>
                <a:chOff x="7454880" y="3071880"/>
                <a:chExt cx="460440" cy="6015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52508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5488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916040" y="3071880"/>
                <a:ext cx="460080" cy="601560"/>
                <a:chOff x="7916040" y="3071880"/>
                <a:chExt cx="460080" cy="6015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98624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916040" y="307188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14160" y="3673800"/>
                <a:ext cx="848520" cy="740160"/>
                <a:chOff x="614160" y="3673800"/>
                <a:chExt cx="848520" cy="7401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84720" y="3673800"/>
                  <a:ext cx="70740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频率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(Hz)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4160" y="3673800"/>
                  <a:ext cx="84852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1463040" y="3673800"/>
                <a:ext cx="460440" cy="740160"/>
                <a:chOff x="1463040" y="3673800"/>
                <a:chExt cx="460440" cy="7401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53360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3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46304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924200" y="3673800"/>
                <a:ext cx="460440" cy="740160"/>
                <a:chOff x="1924200" y="3673800"/>
                <a:chExt cx="460440" cy="7401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99476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4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92420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85000" y="3673800"/>
                <a:ext cx="460440" cy="740160"/>
                <a:chOff x="2385000" y="3673800"/>
                <a:chExt cx="460440" cy="7401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5520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6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8500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846160" y="3673800"/>
                <a:ext cx="460080" cy="740160"/>
                <a:chOff x="2846160" y="3673800"/>
                <a:chExt cx="460080" cy="7401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91636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7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46160" y="3673800"/>
                  <a:ext cx="46008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3306960" y="3673800"/>
                <a:ext cx="460440" cy="740160"/>
                <a:chOff x="3306960" y="3673800"/>
                <a:chExt cx="460440" cy="7401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37752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9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30696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767760" y="3673800"/>
                <a:ext cx="460440" cy="740160"/>
                <a:chOff x="3767760" y="3673800"/>
                <a:chExt cx="460440" cy="7401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83832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2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76776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28920" y="3673800"/>
                <a:ext cx="460080" cy="740160"/>
                <a:chOff x="4228920" y="3673800"/>
                <a:chExt cx="460080" cy="7401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29912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4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28920" y="3673800"/>
                  <a:ext cx="46008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689360" y="3673800"/>
                <a:ext cx="460440" cy="740160"/>
                <a:chOff x="4689360" y="3673800"/>
                <a:chExt cx="460440" cy="7401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75992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6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8936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150520" y="3673800"/>
                <a:ext cx="460440" cy="740160"/>
                <a:chOff x="5150520" y="3673800"/>
                <a:chExt cx="460440" cy="7401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22108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9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15052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611320" y="3673800"/>
                <a:ext cx="460440" cy="740160"/>
                <a:chOff x="5611320" y="3673800"/>
                <a:chExt cx="460440" cy="7401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68188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3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61132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072480" y="3673800"/>
                <a:ext cx="460080" cy="740160"/>
                <a:chOff x="6072480" y="3673800"/>
                <a:chExt cx="460080" cy="7401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14268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49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072480" y="3673800"/>
                  <a:ext cx="46008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532920" y="3673800"/>
                <a:ext cx="460440" cy="740160"/>
                <a:chOff x="6532920" y="3673800"/>
                <a:chExt cx="460440" cy="740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60348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9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53292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994080" y="3673800"/>
                <a:ext cx="460440" cy="740160"/>
                <a:chOff x="6994080" y="3673800"/>
                <a:chExt cx="460440" cy="7401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706464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4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99408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454880" y="3673800"/>
                <a:ext cx="460440" cy="740160"/>
                <a:chOff x="7454880" y="3673800"/>
                <a:chExt cx="460440" cy="7401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752508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9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5488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916040" y="3673800"/>
                <a:ext cx="460080" cy="740160"/>
                <a:chOff x="7916040" y="3673800"/>
                <a:chExt cx="460080" cy="7401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98624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2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16040" y="3673800"/>
                  <a:ext cx="46008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9" name=""/>
            <p:cNvSpPr/>
            <p:nvPr/>
          </p:nvSpPr>
          <p:spPr>
            <a:xfrm>
              <a:off x="609480" y="2465280"/>
              <a:ext cx="7772040" cy="1954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362320" y="19051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6.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黑体"/>
              </a:rPr>
              <a:t>音律与频率对应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1447920"/>
            <a:ext cx="7010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程序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ITLE MUSIC 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乐曲“玛丽有只小羊羔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汇编过程：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SM MUSIC.ASM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连接过程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K MUSIC+GENL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XTRN 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定义外部调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  PARA  STACK ‘STACK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B 64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‘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3036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.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】以乐谱“玛丽有只小羊羔”为例编写演奏程序</a:t>
            </a:r>
            <a:endParaRPr b="1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5943600"/>
            <a:ext cx="59436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14400" y="838080"/>
            <a:ext cx="73915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SEGMENT  PARA ‘DAT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_FREQ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DW 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；为演奏的乐曲定义一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频率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-1MUS_TIME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为演奏的乐曲定义一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；节拍时间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828800" y="609480"/>
            <a:ext cx="6019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0*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ARA ‘COD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C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SU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指向数据指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6080" y="6869160"/>
            <a:ext cx="471816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6080" y="6869160"/>
            <a:ext cx="471816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6080" y="6869160"/>
            <a:ext cx="471816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1981080"/>
            <a:ext cx="43434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85800" y="99072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_FREQ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将频率表的偏移地址送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_TIM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将节拍时间表的偏移地址送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REQ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SI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音符频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结束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_MU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是，退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BP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音符持续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143000" y="838080"/>
            <a:ext cx="7162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发音子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频率表指针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时间表指针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REQ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继续演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_MU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返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419720"/>
            <a:ext cx="47070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楷体_GB2312"/>
              </a:rPr>
              <a:t>．定时报警程序</a:t>
            </a: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743200" y="1295280"/>
          <a:ext cx="3513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295280"/>
                    <a:ext cx="3513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6479640" y="1371600"/>
            <a:ext cx="911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3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实时钟中断处理流程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90720" y="1600200"/>
            <a:ext cx="7238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利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1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实现定时报警，本程序在执行后，若设置成功则首先显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字符串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t up all right 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使扬声器发声，这表明设置成功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钟（为定时时间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读者也可自己设定）后屏幕显示“！”并发声，以示报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汇编过程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S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ARM.A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连接过程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K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ARM+GEN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XTRN 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定义外部调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84240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.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TITLE  ALARM——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时报警程序</a:t>
            </a:r>
            <a:endParaRPr b="1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0" y="2057400"/>
            <a:ext cx="4572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．动画显示的基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．程序举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1.2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动画程序的开发 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43000" y="990720"/>
            <a:ext cx="6858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 PARA STACK ‘STACK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B 64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CK﹒﹒﹒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  PARA  PUBLIC ‘DAT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B ‘Set up all right .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B 1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2895480"/>
            <a:ext cx="563904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5638680"/>
            <a:ext cx="579132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990720" y="838080"/>
            <a:ext cx="7238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SEGMENT  PARA  PUBLIC ‘COD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C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TR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  F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存旧的数据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读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4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71600" y="914400"/>
            <a:ext cx="69343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H              INT          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入栈保护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EP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  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清除实时钟报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EP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进位位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转移（成功则转移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新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4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 AL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3886200"/>
            <a:ext cx="51814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90720" y="1143000"/>
            <a:ext cx="7238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LARM               MOV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5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1H                                CLI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关中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TEP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利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INT 1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读当前实时钟时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时、分、秒分别置入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J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TEP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不成功再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增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A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调整为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码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60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是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吗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数）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14400" y="914400"/>
            <a:ext cx="7696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EP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不是，则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是，改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EP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   C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得到报警时刻的分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仍为原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A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设置报警时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EP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不成功重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开中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TU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  A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设置成功发出“嘟嘟”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23880" y="914400"/>
            <a:ext cx="60962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7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7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振铃控制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21H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功能实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T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循环发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FSET BJ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t up all right .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字符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6019920"/>
            <a:ext cx="49528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14400" y="914400"/>
            <a:ext cx="7620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INP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    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5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延时程序段，等待报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INP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IN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IN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4AH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原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914400"/>
            <a:ext cx="64767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           R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TR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AR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报警中断服务程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PU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              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字符‘！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‘！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2286000"/>
            <a:ext cx="50292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371600" y="838080"/>
            <a:ext cx="6095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发音频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发音延迟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通用发声子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             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           I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AR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TR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程序结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4952880"/>
            <a:ext cx="541044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70920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6.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】用软中断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 60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发声中断服务程序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 61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以及软中断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 62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 63H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实现字符串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el 80486 DX2/66 CPU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显示、扬声器发声和变色三角形的显示功能，定时器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C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中断作为计数器使用。</a:t>
            </a:r>
            <a:endParaRPr b="1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28600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  PARA ‘DATA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数据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B  0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‘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el 80486 DX2/66 CPU $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B ?       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2590920"/>
            <a:ext cx="5333760" cy="0"/>
          </a:xfrm>
          <a:prstGeom prst="line">
            <a:avLst/>
          </a:prstGeom>
          <a:ln w="93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0" y="5334120"/>
            <a:ext cx="5334120" cy="0"/>
          </a:xfrm>
          <a:prstGeom prst="line">
            <a:avLst/>
          </a:prstGeom>
          <a:ln w="93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190512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屏幕上显示出动画的效果，可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步进行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屏幕上显示图形（单字符或多字符图形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延迟一个时间周期，这样图形更清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清除图形。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改变图形的行列坐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返回第一步，重复上述过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．动画显示的基础</a:t>
            </a:r>
            <a:endParaRPr b="1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990720" y="91440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  PARA  STACK  ‘STAC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堆栈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  100  DUP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  PARA  ‘CODE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代码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C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S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主程序开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2743200"/>
            <a:ext cx="5715000" cy="76320"/>
          </a:xfrm>
          <a:prstGeom prst="line">
            <a:avLst/>
          </a:prstGeom>
          <a:ln w="93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14400" y="914400"/>
            <a:ext cx="7010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     XOR       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     MOV      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关中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存定时器时钟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838080" y="60948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    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FSET  RIN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定时器时钟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 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CH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读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M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的屏蔽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143000" y="609480"/>
            <a:ext cx="7010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11110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开放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保留中断屏蔽设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将新屏蔽码写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M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入栈保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FSET 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偏移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段基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62120" y="838080"/>
            <a:ext cx="7391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软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I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软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I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066680" y="106668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                      MOV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2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软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I63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       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                    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开中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19320" y="762120"/>
            <a:ext cx="71625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，使程序进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循环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1                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定时器控制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  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器恢复文本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95280" y="1066680"/>
            <a:ext cx="67820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I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 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                               ST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IN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定时器中断服务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计数单元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676520" y="2438280"/>
            <a:ext cx="5105160" cy="7632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219320" y="838080"/>
            <a:ext cx="69339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 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中断服务结束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IN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服务程序完成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的调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‘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el 80486 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3352680"/>
            <a:ext cx="495324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600200" y="914400"/>
            <a:ext cx="5867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/66 CPU‘ 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中断延时到否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到，则转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否则使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清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用发声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用延时绘图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2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538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Untitled-1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952880" cy="3195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09680" y="4800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1 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汽车”各字符的相对位移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9907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990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733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1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2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95280" y="762120"/>
            <a:ext cx="662940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中断服务结束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声中断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置发音持续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255A PB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口内容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111100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28800" y="2133720"/>
            <a:ext cx="51814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990720" y="990720"/>
            <a:ext cx="7238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O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0000010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取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口，控制扬声器发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F60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置方波信号频率变换时间常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2                   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1        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现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6680" y="762120"/>
            <a:ext cx="7086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延时调用绘图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PUSH   DX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4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2                          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软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    I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828800" y="914400"/>
            <a:ext cx="5410080" cy="7632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066680" y="685800"/>
            <a:ext cx="7086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绘图中断程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显示模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图形方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0*2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图形色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图形起点行坐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=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3880" y="990720"/>
            <a:ext cx="462276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143000" y="91440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图形第一行点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图形起点列坐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1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入栈保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写点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功能调用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修改写点列坐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CX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914400" y="99072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修改写点计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D3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判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？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D3+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修改点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=DX+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起点行坐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CX-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起点列坐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？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=AL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09680" y="762120"/>
            <a:ext cx="556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=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非，转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文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0*2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模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现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219320" y="1143000"/>
            <a:ext cx="6400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结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14600" y="3048120"/>
            <a:ext cx="448956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14472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ank you very much !</a:t>
            </a: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">
            <a:hlinkClick r:id="rId1" action="ppaction://hlinksldjump"/>
          </p:cNvPr>
          <p:cNvSpPr/>
          <p:nvPr/>
        </p:nvSpPr>
        <p:spPr>
          <a:xfrm>
            <a:off x="6629400" y="6324480"/>
            <a:ext cx="2133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endshow"/>
          </p:cNvPr>
          <p:cNvSpPr/>
          <p:nvPr/>
        </p:nvSpPr>
        <p:spPr>
          <a:xfrm>
            <a:off x="40384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结    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2971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本章到此结束，谢谢您的光临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19320" y="1523880"/>
            <a:ext cx="731520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】在屏幕上显示一个开动的汽车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所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源程序如下：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EG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 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字符图形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52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0B1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0DB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0DB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F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F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4548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．程序举例</a:t>
            </a: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838080"/>
            <a:ext cx="4648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990720"/>
            <a:ext cx="73152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HAR_CN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W ?                  POINT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W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LINE_O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 ?                   COL_ON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SSUME C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FAR                 PUSH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PUS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初始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2590920"/>
            <a:ext cx="50292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762120"/>
            <a:ext cx="7010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0×2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彩色图形方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背景颜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B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彩色调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1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B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EAR_SCREE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清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新人电脑</cp:lastModifiedBy>
  <dcterms:modified xsi:type="dcterms:W3CDTF">2001-11-13T08:01:42Z</dcterms:modified>
  <cp:revision>27</cp:revision>
  <dc:subject/>
  <dc:title>PowerPoint 演示文稿</dc:title>
</cp:coreProperties>
</file>